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80B2-4CC9-4814-BFA7-6FADF9E85DD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B5B1-DA58-491C-84C0-4976B2FD331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0B3E-02F2-4424-8EA0-AAE37EE6220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D4A9-2837-41A8-B550-86B1EB015AB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4FDD-733C-4DB9-9695-019A5ABC8E8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E501-EA52-4397-A50D-435D19F6A58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4E4A-A877-45E7-B9D7-167EBFBEA31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346B-8D29-4064-8A79-3169CA2D324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BE14-F936-4C08-9922-24F5D9B671F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1AA0-6CB8-4F83-B9ED-C7E89F68A70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4CB6-D92E-4996-8654-EB90A4AA14A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1D5B-2499-4468-B2A9-F6F6EF16040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8738-13EA-44CE-8A3C-CD085077E2B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8F78-941C-4B29-9FED-306874E9805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2752-26C0-4C2B-886D-A9D4375F4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B385-AFC6-4E88-9B0E-B113EA4B3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2AB6-B682-4947-9DB2-BDCC6D74B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47C1-6E9B-49F4-A592-70A283357D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B9A7-E105-401F-93CF-3BD62254C5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75ED-18EA-4EED-8450-8E9286A19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7B94-E56C-432B-BBA0-53126CB21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20A4-DD3B-4392-9650-68B9F712D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58CF-D8AA-46D5-992B-12496345F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5E0C-0124-4052-9512-27B37BC5D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24B7-7575-46EC-8C66-14AC84CF0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C068-D91E-487E-9255-73E5FD2D5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676C-D8E1-4F04-801F-49A4D8728CA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성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기관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22T06:46:42Z</dcterms:modified>
  <cp:revision>99</cp:revision>
  <dc:subject/>
  <dc:title>2006년도 식품의약품안전청 공개발표 선정평가    ℹ 사 업 명 :   ℹ 과 제 명 :   ℹ 연 구 비 :   ℹ 신청기관 :   ℹ 주관연구책임자 :</dc:title>
</cp:coreProperties>
</file>